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04CF-3D9B-4107-9435-3296AC2E4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BD3-B276-4FC9-A8E7-03B64D0D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C9B-CC06-451D-800E-E5E3860BC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964-E497-4089-B059-0A81B20E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7806-FB79-4563-97B2-95EF79955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239B-EB28-4B3A-B7C7-CED66FBCD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1BBB-A82F-4F0D-BD70-0754B6BDA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2580-9145-479C-80F7-E60C15B55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F099-4469-49C9-860A-C3CBD6603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E099-FD7F-4F10-B45A-885F21C9F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B9DE-6356-4FBD-8671-3DC90E444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E1AC-84EF-47F0-BC20-A58AC19B9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7042-CBC0-44D0-8334-3A3813621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7E8E-E866-4169-945B-593D0C9B0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58E2-0371-4406-85D0-07BA74766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45AB-A26C-44F1-B040-A99692491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F146-465D-4A6F-8214-BF420C2647E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Blue\Gilbertson_0538447052_amzn.jpg"/>
          <p:cNvPicPr/>
          <p:nvPr/>
        </p:nvPicPr>
        <p:blipFill>
          <a:blip r:embed="rId2"/>
          <a:stretch/>
        </p:blipFill>
        <p:spPr>
          <a:xfrm>
            <a:off x="0" y="14400"/>
            <a:ext cx="968400" cy="12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Blue\Gilbertson_0538447052_amzn.jpg"/>
          <p:cNvPicPr/>
          <p:nvPr/>
        </p:nvPicPr>
        <p:blipFill>
          <a:blip r:embed="rId2"/>
          <a:stretch/>
        </p:blipFill>
        <p:spPr>
          <a:xfrm>
            <a:off x="0" y="14400"/>
            <a:ext cx="968400" cy="12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8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cording Adjusting E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Know Consul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echKnow Consulting prepares a Worksheet at the end of every fiscal period to summarize General Ledger Information and to use to create financial documents, such as Income Statements and Balance She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eckKNow Consulting’s adjustments are analyzed and planned on a work sheet. However these adjustments must be journalized to they can be posted to the general ledger accou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ournal entries recorded to update general ledger accounts at the end of the fiscal period are called 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adjusting entrie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A80-64D0-4829-9D9A-DB134CD5270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ING ENTRY FOR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:\Documents and Settings\mcm08@fuse.net\My Documents\2005 Business Projects\Slides for Century 21 Accounting\Blue\ch08\C21_blue_0801.jpg"/>
          <p:cNvPicPr/>
          <p:nvPr/>
        </p:nvPicPr>
        <p:blipFill>
          <a:blip r:embed="rId1"/>
          <a:srcRect l="1127" t="0" r="0" b="0"/>
          <a:stretch/>
        </p:blipFill>
        <p:spPr>
          <a:xfrm>
            <a:off x="304920" y="1447920"/>
            <a:ext cx="5790960" cy="314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mcm08@fuse.net\My Documents\2005 Business Projects\Slides for Century 21 Accounting\Blue\ch08\C21_blue_0802.jpg"/>
          <p:cNvPicPr/>
          <p:nvPr/>
        </p:nvPicPr>
        <p:blipFill>
          <a:blip r:embed="rId2"/>
          <a:stretch/>
        </p:blipFill>
        <p:spPr>
          <a:xfrm>
            <a:off x="3048120" y="4854600"/>
            <a:ext cx="3200400" cy="131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143000" y="3429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68440" y="42670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2324160" y="3898800"/>
            <a:ext cx="1905120" cy="411120"/>
            <a:chOff x="2324160" y="3898800"/>
            <a:chExt cx="1905120" cy="411120"/>
          </a:xfrm>
        </p:grpSpPr>
        <p:sp>
          <p:nvSpPr>
            <p:cNvPr id="108" name="Line 15"/>
            <p:cNvSpPr/>
            <p:nvPr/>
          </p:nvSpPr>
          <p:spPr>
            <a:xfrm>
              <a:off x="2324160" y="41054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3048120" y="3898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8"/>
          <p:cNvGrpSpPr/>
          <p:nvPr/>
        </p:nvGrpSpPr>
        <p:grpSpPr>
          <a:xfrm>
            <a:off x="1600200" y="4419720"/>
            <a:ext cx="3656160" cy="649080"/>
            <a:chOff x="1600200" y="4419720"/>
            <a:chExt cx="3656160" cy="649080"/>
          </a:xfrm>
        </p:grpSpPr>
        <p:sp>
          <p:nvSpPr>
            <p:cNvPr id="111" name="Freeform 17"/>
            <p:cNvSpPr/>
            <p:nvPr/>
          </p:nvSpPr>
          <p:spPr>
            <a:xfrm>
              <a:off x="1600200" y="4419720"/>
              <a:ext cx="3656160" cy="476280"/>
            </a:xfrm>
            <a:custGeom>
              <a:avLst/>
              <a:gdLst/>
              <a:ahLst/>
              <a:rect l="l" t="t" r="r" b="b"/>
              <a:pathLst>
                <a:path w="2303" h="300">
                  <a:moveTo>
                    <a:pt x="0" y="0"/>
                  </a:moveTo>
                  <a:lnTo>
                    <a:pt x="570" y="300"/>
                  </a:lnTo>
                  <a:lnTo>
                    <a:pt x="2303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286000" y="46576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9"/>
          <p:cNvSpPr/>
          <p:nvPr/>
        </p:nvSpPr>
        <p:spPr>
          <a:xfrm>
            <a:off x="6248520" y="34606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6248520" y="21844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6248520" y="1809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6248520" y="1447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h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A1FE-F198-473A-BC54-F6DA8129FE6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C:\Documents and Settings\mcm08@fuse.net\My Documents\2005 Business Projects\Slides for Century 21 Accounting\Blue\ch08\C21_blue_0804.jpg"/>
          <p:cNvPicPr/>
          <p:nvPr/>
        </p:nvPicPr>
        <p:blipFill>
          <a:blip r:embed="rId1"/>
          <a:stretch/>
        </p:blipFill>
        <p:spPr>
          <a:xfrm>
            <a:off x="5486400" y="4800600"/>
            <a:ext cx="3532320" cy="139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mcm08@fuse.net\My Documents\2005 Business Projects\Slides for Century 21 Accounting\Blue\ch08\C21_blue_0803.jpg"/>
          <p:cNvPicPr/>
          <p:nvPr/>
        </p:nvPicPr>
        <p:blipFill>
          <a:blip r:embed="rId2"/>
          <a:stretch/>
        </p:blipFill>
        <p:spPr>
          <a:xfrm>
            <a:off x="304920" y="1447920"/>
            <a:ext cx="5790960" cy="3492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ING ENTRY FOR PREPAID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503280" y="47242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2436840" y="4321080"/>
            <a:ext cx="1828800" cy="411120"/>
            <a:chOff x="2436840" y="4321080"/>
            <a:chExt cx="1828800" cy="411120"/>
          </a:xfrm>
        </p:grpSpPr>
        <p:sp>
          <p:nvSpPr>
            <p:cNvPr id="125" name="Line 17"/>
            <p:cNvSpPr/>
            <p:nvPr/>
          </p:nvSpPr>
          <p:spPr>
            <a:xfrm>
              <a:off x="2436840" y="452736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3146400" y="432108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1600200" y="4836960"/>
            <a:ext cx="3656160" cy="649080"/>
            <a:chOff x="1600200" y="4836960"/>
            <a:chExt cx="3656160" cy="649080"/>
          </a:xfrm>
        </p:grpSpPr>
        <p:sp>
          <p:nvSpPr>
            <p:cNvPr id="128" name="Freeform 20"/>
            <p:cNvSpPr/>
            <p:nvPr/>
          </p:nvSpPr>
          <p:spPr>
            <a:xfrm>
              <a:off x="1600200" y="4836960"/>
              <a:ext cx="3656160" cy="476280"/>
            </a:xfrm>
            <a:custGeom>
              <a:avLst/>
              <a:gdLst/>
              <a:ahLst/>
              <a:rect l="l" t="t" r="r" b="b"/>
              <a:pathLst>
                <a:path w="2303" h="300">
                  <a:moveTo>
                    <a:pt x="0" y="0"/>
                  </a:moveTo>
                  <a:lnTo>
                    <a:pt x="570" y="300"/>
                  </a:lnTo>
                  <a:lnTo>
                    <a:pt x="2303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286000" y="507492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Rectangle 22"/>
          <p:cNvSpPr/>
          <p:nvPr/>
        </p:nvSpPr>
        <p:spPr>
          <a:xfrm>
            <a:off x="6248520" y="30862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credited. Record the cred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6248520" y="18097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itle of the account debited. Record the debit am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6248520" y="1447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9E51-5D0B-4077-8565-0D58D41433C3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2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ket out the d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make adjustments on the worksh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make adjusting journal entries and post them to the general led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happen if we didn’t make adjusting ent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4B9-2566-4206-9B67-15BDEB3E3695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8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14Z</dcterms:created>
  <dc:creator>M. C. McLaughlin</dc:creator>
  <dc:description/>
  <dc:language>en-US</dc:language>
  <cp:lastModifiedBy>amason</cp:lastModifiedBy>
  <dcterms:modified xsi:type="dcterms:W3CDTF">2013-01-23T21:16:27Z</dcterms:modified>
  <cp:revision>22</cp:revision>
  <dc:subject/>
  <dc:title>Lesson 8-1</dc:title>
</cp:coreProperties>
</file>